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8288000" cy="10288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E214-25DE-4911-95DA-A0B64C630A3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egnaposto numero diapositiva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10A8-BFA0-4E7F-9F24-5B179531A81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2B85-1CE0-48ED-8122-C48DB093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CC2-C14A-435E-956C-85B9D788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68C-7183-4211-8280-049441171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5B0-C85C-4FB0-9A9A-4D8CD1E57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DDB-7EE7-43AB-B5E4-3A55CFB7C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242-0F84-43A0-AEF8-4B181DF9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F25-F781-4283-948D-2A4B2016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7AF-62D9-42E0-8FC6-0E1CBA85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9637-A59A-4626-8A86-D7570179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3B4-4F3A-44F9-B722-91906E4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512-CE7D-474E-9EA3-58C31D98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E8E1-51A0-4C79-BBA7-2B534521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AD21-0965-4B00-BC76-BB1AA841C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5720" y="488880"/>
            <a:ext cx="3495600" cy="199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20823" t="12058" r="20184" b="30228"/>
          <a:stretch/>
        </p:blipFill>
        <p:spPr>
          <a:xfrm>
            <a:off x="15468480" y="396720"/>
            <a:ext cx="1793880" cy="1756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2333520" y="3616200"/>
            <a:ext cx="134413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67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600" spc="-1" strike="noStrike">
                <a:solidFill>
                  <a:srgbClr val="1d617a"/>
                </a:solidFill>
                <a:latin typeface="Poppins Bold Bold Italics"/>
              </a:rPr>
              <a:t>La Carta delle Città per il Diritto Umano all'Acqua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971800" y="5261040"/>
            <a:ext cx="11763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1d617a"/>
                </a:solidFill>
                <a:latin typeface="Poppins Light Bold"/>
              </a:rPr>
              <a:t>Audizione presso la Commissione Affari Istituzionali e Città metropolitana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7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617a"/>
                </a:solidFill>
                <a:latin typeface="Poppins Light Bold"/>
              </a:rPr>
              <a:t>Milano 21/12/20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878200" y="8582040"/>
            <a:ext cx="14724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1d617a"/>
                </a:solidFill>
                <a:latin typeface="Poppins Light Bold"/>
              </a:rPr>
              <a:t>Rosario Lembo - Cinzia Thomareiz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50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1d617a"/>
                </a:solidFill>
                <a:latin typeface="Poppins Light Bold"/>
              </a:rPr>
              <a:t>Comitato Italiano Contratto Mondiale 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428840" y="0"/>
            <a:ext cx="15430320" cy="10287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5486400" y="363600"/>
            <a:ext cx="5367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www.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5581800" y="9201240"/>
            <a:ext cx="66103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ppins Light"/>
                <a:ea typeface="Arial"/>
              </a:rPr>
              <a:t>segretariocicma@contrattoacqua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629400" y="495360"/>
            <a:ext cx="9937800" cy="497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403200" y="5732640"/>
            <a:ext cx="4203720" cy="420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57720" y="6227640"/>
            <a:ext cx="12549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INCLUSIV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accesso al minimo vitale (50 l/p/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ICURE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qualità dell'acqua e salute degli ecosist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SILIENT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riduzione consumi, prevenzione di scarsità idrica, contrasto ai cambiamenti clima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 algn="just">
              <a:lnSpc>
                <a:spcPts val="4799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SOSTENIBILI:</a:t>
            </a:r>
            <a:r>
              <a:rPr b="0" lang="en-US" sz="3200" spc="-1" strike="noStrike">
                <a:solidFill>
                  <a:srgbClr val="1d617a"/>
                </a:solidFill>
                <a:latin typeface="Poppins Light"/>
                <a:ea typeface="Arial"/>
              </a:rPr>
              <a:t> Piani di Sicurezza dell'Acqu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Immagine 4" descr="Immagine che contiene testo&#10;&#10;Descrizione generata automaticamente"/>
          <p:cNvPicPr/>
          <p:nvPr/>
        </p:nvPicPr>
        <p:blipFill>
          <a:blip r:embed="rId3"/>
          <a:stretch/>
        </p:blipFill>
        <p:spPr>
          <a:xfrm>
            <a:off x="909720" y="1028880"/>
            <a:ext cx="424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15087600" y="-1857600"/>
            <a:ext cx="5329800" cy="5641200"/>
            <a:chOff x="15087600" y="-1857600"/>
            <a:chExt cx="5329800" cy="5641200"/>
          </a:xfrm>
        </p:grpSpPr>
        <p:grpSp>
          <p:nvGrpSpPr>
            <p:cNvPr id="58" name="Group 3"/>
            <p:cNvGrpSpPr/>
            <p:nvPr/>
          </p:nvGrpSpPr>
          <p:grpSpPr>
            <a:xfrm>
              <a:off x="15087600" y="-1546200"/>
              <a:ext cx="5329800" cy="5329800"/>
              <a:chOff x="15087600" y="-1546200"/>
              <a:chExt cx="5329800" cy="5329800"/>
            </a:xfrm>
          </p:grpSpPr>
          <p:sp>
            <p:nvSpPr>
              <p:cNvPr id="59" name="Freeform 4"/>
              <p:cNvSpPr/>
              <p:nvPr/>
            </p:nvSpPr>
            <p:spPr>
              <a:xfrm rot="18900000">
                <a:off x="15644880" y="-54216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5"/>
            <p:cNvGrpSpPr/>
            <p:nvPr/>
          </p:nvGrpSpPr>
          <p:grpSpPr>
            <a:xfrm>
              <a:off x="15278400" y="-1857600"/>
              <a:ext cx="4163400" cy="4163760"/>
              <a:chOff x="15278400" y="-1857600"/>
              <a:chExt cx="4163400" cy="4163760"/>
            </a:xfrm>
          </p:grpSpPr>
          <p:sp>
            <p:nvSpPr>
              <p:cNvPr id="61" name="Freeform 6"/>
              <p:cNvSpPr/>
              <p:nvPr/>
            </p:nvSpPr>
            <p:spPr>
              <a:xfrm rot="18900000">
                <a:off x="16077240" y="-143676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Group 7"/>
          <p:cNvGrpSpPr/>
          <p:nvPr/>
        </p:nvGrpSpPr>
        <p:grpSpPr>
          <a:xfrm>
            <a:off x="-2114640" y="7758000"/>
            <a:ext cx="5329800" cy="5640840"/>
            <a:chOff x="-2114640" y="7758000"/>
            <a:chExt cx="5329800" cy="5640840"/>
          </a:xfrm>
        </p:grpSpPr>
        <p:grpSp>
          <p:nvGrpSpPr>
            <p:cNvPr id="63" name="Group 8"/>
            <p:cNvGrpSpPr/>
            <p:nvPr/>
          </p:nvGrpSpPr>
          <p:grpSpPr>
            <a:xfrm>
              <a:off x="-2114640" y="8069040"/>
              <a:ext cx="5329800" cy="5329800"/>
              <a:chOff x="-2114640" y="8069040"/>
              <a:chExt cx="5329800" cy="5329800"/>
            </a:xfrm>
          </p:grpSpPr>
          <p:sp>
            <p:nvSpPr>
              <p:cNvPr id="64" name="Freeform 9"/>
              <p:cNvSpPr/>
              <p:nvPr/>
            </p:nvSpPr>
            <p:spPr>
              <a:xfrm rot="18900000">
                <a:off x="-1557000" y="9072720"/>
                <a:ext cx="4214880" cy="3322440"/>
              </a:xfrm>
              <a:custGeom>
                <a:avLst/>
                <a:gdLst/>
                <a:ahLst/>
                <a:rect l="l" t="t" r="r" b="b"/>
                <a:pathLst>
                  <a:path w="1359119" h="360680">
                    <a:moveTo>
                      <a:pt x="1359119" y="180340"/>
                    </a:moveTo>
                    <a:cubicBezTo>
                      <a:pt x="1359119" y="81280"/>
                      <a:pt x="1279109" y="0"/>
                      <a:pt x="1178779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1178778" y="360680"/>
                    </a:lnTo>
                    <a:cubicBezTo>
                      <a:pt x="1277838" y="360680"/>
                      <a:pt x="1359118" y="279400"/>
                      <a:pt x="1359118" y="180340"/>
                    </a:cubicBezTo>
                    <a:lnTo>
                      <a:pt x="1359119" y="180340"/>
                    </a:lnTo>
                    <a:close/>
                  </a:path>
                </a:pathLst>
              </a:custGeom>
              <a:solidFill>
                <a:srgbClr val="dbe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10"/>
            <p:cNvGrpSpPr/>
            <p:nvPr/>
          </p:nvGrpSpPr>
          <p:grpSpPr>
            <a:xfrm>
              <a:off x="-1923480" y="7758000"/>
              <a:ext cx="4163400" cy="4163760"/>
              <a:chOff x="-1923480" y="7758000"/>
              <a:chExt cx="4163400" cy="4163760"/>
            </a:xfrm>
          </p:grpSpPr>
          <p:sp>
            <p:nvSpPr>
              <p:cNvPr id="66" name="Freeform 11"/>
              <p:cNvSpPr/>
              <p:nvPr/>
            </p:nvSpPr>
            <p:spPr>
              <a:xfrm rot="18900000">
                <a:off x="-1124280" y="8178480"/>
                <a:ext cx="2565720" cy="3322440"/>
              </a:xfrm>
              <a:custGeom>
                <a:avLst/>
                <a:gdLst/>
                <a:ahLst/>
                <a:rect l="l" t="t" r="r" b="b"/>
                <a:pathLst>
                  <a:path w="817436" h="360680">
                    <a:moveTo>
                      <a:pt x="817436" y="180340"/>
                    </a:moveTo>
                    <a:cubicBezTo>
                      <a:pt x="817436" y="81280"/>
                      <a:pt x="737426" y="0"/>
                      <a:pt x="637096" y="0"/>
                    </a:cubicBezTo>
                    <a:lnTo>
                      <a:pt x="172720" y="0"/>
                    </a:lnTo>
                    <a:lnTo>
                      <a:pt x="172720" y="1270"/>
                    </a:lnTo>
                    <a:cubicBezTo>
                      <a:pt x="76200" y="5080"/>
                      <a:pt x="0" y="83820"/>
                      <a:pt x="0" y="180340"/>
                    </a:cubicBezTo>
                    <a:cubicBezTo>
                      <a:pt x="0" y="276860"/>
                      <a:pt x="77470" y="355600"/>
                      <a:pt x="172720" y="359410"/>
                    </a:cubicBezTo>
                    <a:lnTo>
                      <a:pt x="172720" y="360680"/>
                    </a:lnTo>
                    <a:lnTo>
                      <a:pt x="637096" y="360680"/>
                    </a:lnTo>
                    <a:cubicBezTo>
                      <a:pt x="736156" y="360680"/>
                      <a:pt x="817436" y="279400"/>
                      <a:pt x="817436" y="180340"/>
                    </a:cubicBezTo>
                    <a:close/>
                  </a:path>
                </a:pathLst>
              </a:custGeom>
              <a:solidFill>
                <a:srgbClr val="61c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Group 12"/>
          <p:cNvGrpSpPr/>
          <p:nvPr/>
        </p:nvGrpSpPr>
        <p:grpSpPr>
          <a:xfrm>
            <a:off x="3057480" y="958680"/>
            <a:ext cx="3776760" cy="3776760"/>
            <a:chOff x="3057480" y="958680"/>
            <a:chExt cx="3776760" cy="3776760"/>
          </a:xfrm>
        </p:grpSpPr>
        <p:sp>
          <p:nvSpPr>
            <p:cNvPr id="68" name="Freeform 13"/>
            <p:cNvSpPr/>
            <p:nvPr/>
          </p:nvSpPr>
          <p:spPr>
            <a:xfrm>
              <a:off x="3057480" y="95868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14"/>
          <p:cNvSpPr/>
          <p:nvPr/>
        </p:nvSpPr>
        <p:spPr>
          <a:xfrm>
            <a:off x="3300480" y="1598760"/>
            <a:ext cx="3290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1 famiglia su 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non si fida dell’acqua di rubinett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990720" y="2916360"/>
            <a:ext cx="15174720" cy="3866040"/>
            <a:chOff x="990720" y="2916360"/>
            <a:chExt cx="15174720" cy="3866040"/>
          </a:xfrm>
        </p:grpSpPr>
        <p:sp>
          <p:nvSpPr>
            <p:cNvPr id="71" name="TextBox 16"/>
            <p:cNvSpPr/>
            <p:nvPr/>
          </p:nvSpPr>
          <p:spPr>
            <a:xfrm>
              <a:off x="990720" y="2916360"/>
              <a:ext cx="15174720" cy="8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67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7"/>
            <p:cNvSpPr/>
            <p:nvPr/>
          </p:nvSpPr>
          <p:spPr>
            <a:xfrm>
              <a:off x="990720" y="3925440"/>
              <a:ext cx="15174720" cy="28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4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18"/>
          <p:cNvSpPr/>
          <p:nvPr/>
        </p:nvSpPr>
        <p:spPr>
          <a:xfrm>
            <a:off x="2814480" y="5729400"/>
            <a:ext cx="12088800" cy="41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L'accesso all'acqua e ai servizi igienici è un Diritto Umano riconosciuto dalle Nazioni Unite nel 201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Poppins Light"/>
              </a:rPr>
              <a:t>Rapporto UN Water 2021 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sullo sviluppo idrico mondial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“</a:t>
            </a:r>
            <a:r>
              <a:rPr b="0" lang="it-IT" sz="3100" spc="-1" strike="noStrike">
                <a:solidFill>
                  <a:srgbClr val="ffffff"/>
                </a:solidFill>
                <a:latin typeface="Poppins Light"/>
              </a:rPr>
              <a:t>Il valore dell’acqua: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Poppins Light"/>
              </a:rPr>
              <a:t>Ob. 6 non sarà raggiunto entro il 2030 se non si quadruplicano gli sforzi locali e internazion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9" descr=""/>
          <p:cNvPicPr/>
          <p:nvPr/>
        </p:nvPicPr>
        <p:blipFill>
          <a:blip r:embed="rId1"/>
          <a:stretch/>
        </p:blipFill>
        <p:spPr>
          <a:xfrm>
            <a:off x="7666200" y="2943360"/>
            <a:ext cx="2117520" cy="211752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20"/>
          <p:cNvGrpSpPr/>
          <p:nvPr/>
        </p:nvGrpSpPr>
        <p:grpSpPr>
          <a:xfrm>
            <a:off x="10542600" y="1050840"/>
            <a:ext cx="3776760" cy="3776760"/>
            <a:chOff x="10542600" y="1050840"/>
            <a:chExt cx="3776760" cy="3776760"/>
          </a:xfrm>
        </p:grpSpPr>
        <p:sp>
          <p:nvSpPr>
            <p:cNvPr id="76" name="Freeform 21"/>
            <p:cNvSpPr/>
            <p:nvPr/>
          </p:nvSpPr>
          <p:spPr>
            <a:xfrm>
              <a:off x="10542600" y="1050840"/>
              <a:ext cx="3776760" cy="377676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2"/>
          <p:cNvSpPr/>
          <p:nvPr/>
        </p:nvSpPr>
        <p:spPr>
          <a:xfrm>
            <a:off x="10785600" y="1420920"/>
            <a:ext cx="3292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100" spc="-1" strike="noStrike">
                <a:solidFill>
                  <a:srgbClr val="1d617a"/>
                </a:solidFill>
                <a:latin typeface="Poppins Light"/>
              </a:rPr>
              <a:t>Consumo acqua a Milano  300 l/p/g  Media naz. 215 l/p/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2457360" y="374760"/>
            <a:ext cx="12855600" cy="3147840"/>
            <a:chOff x="2457360" y="374760"/>
            <a:chExt cx="12855600" cy="3147840"/>
          </a:xfrm>
        </p:grpSpPr>
        <p:sp>
          <p:nvSpPr>
            <p:cNvPr id="79" name="TextBox 3"/>
            <p:cNvSpPr/>
            <p:nvPr/>
          </p:nvSpPr>
          <p:spPr>
            <a:xfrm>
              <a:off x="3368520" y="2999880"/>
              <a:ext cx="1103292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4535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4"/>
            <p:cNvSpPr/>
            <p:nvPr/>
          </p:nvSpPr>
          <p:spPr>
            <a:xfrm>
              <a:off x="2457360" y="374760"/>
              <a:ext cx="12855600" cy="17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703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400" spc="-1" strike="noStrike">
                  <a:solidFill>
                    <a:srgbClr val="1d617a"/>
                  </a:solidFill>
                  <a:latin typeface="Poppins Bold Bold Italics"/>
                </a:rPr>
                <a:t>LA CARTA DELLE CITTA' PER IL DIRITTO UMANO ALL'ACQUA</a:t>
              </a:r>
              <a:endParaRPr b="0" lang="en-US" sz="6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1498680" y="4478400"/>
            <a:ext cx="2119320" cy="211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826240" y="4545000"/>
            <a:ext cx="2109600" cy="2109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0144080" y="4495680"/>
            <a:ext cx="2098800" cy="2098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14254200" y="4476600"/>
            <a:ext cx="2117520" cy="2117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2097000" y="2760840"/>
            <a:ext cx="135748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CQUA: modello di riferimento per calare gli SDGs su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1401840" y="8518680"/>
            <a:ext cx="31766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9366120" y="849636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13352400" y="8394840"/>
            <a:ext cx="31752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6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996840" y="7013520"/>
            <a:ext cx="297684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 livello di minimo vitale gratuito per tutti e accesso negli spaz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13480920" y="7085160"/>
            <a:ext cx="396252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riduzione e riciclo plastica, riuso acque reflue, meteoriche, prevenzione eventi estre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9669600" y="7040520"/>
            <a:ext cx="3049560" cy="26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ozione dell'uso di acqua di rete, contrastando la sfidu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5267160" y="7061040"/>
            <a:ext cx="341028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raverso adozione di agende urbane o impegni specif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1817640" y="1959120"/>
            <a:ext cx="3622680" cy="3620880"/>
            <a:chOff x="1817640" y="1959120"/>
            <a:chExt cx="3622680" cy="3620880"/>
          </a:xfrm>
        </p:grpSpPr>
        <p:sp>
          <p:nvSpPr>
            <p:cNvPr id="94" name="Freeform 3"/>
            <p:cNvSpPr/>
            <p:nvPr/>
          </p:nvSpPr>
          <p:spPr>
            <a:xfrm>
              <a:off x="1817640" y="1959120"/>
              <a:ext cx="3622680" cy="36208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4"/>
          <p:cNvGrpSpPr/>
          <p:nvPr/>
        </p:nvGrpSpPr>
        <p:grpSpPr>
          <a:xfrm>
            <a:off x="7459560" y="1959120"/>
            <a:ext cx="3508560" cy="3508200"/>
            <a:chOff x="7459560" y="1959120"/>
            <a:chExt cx="3508560" cy="3508200"/>
          </a:xfrm>
        </p:grpSpPr>
        <p:sp>
          <p:nvSpPr>
            <p:cNvPr id="96" name="Freeform 5"/>
            <p:cNvSpPr/>
            <p:nvPr/>
          </p:nvSpPr>
          <p:spPr>
            <a:xfrm>
              <a:off x="7459560" y="1959120"/>
              <a:ext cx="350856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6"/>
          <p:cNvGrpSpPr/>
          <p:nvPr/>
        </p:nvGrpSpPr>
        <p:grpSpPr>
          <a:xfrm>
            <a:off x="13068360" y="2071800"/>
            <a:ext cx="3510000" cy="3508200"/>
            <a:chOff x="13068360" y="2071800"/>
            <a:chExt cx="3510000" cy="3508200"/>
          </a:xfrm>
        </p:grpSpPr>
        <p:sp>
          <p:nvSpPr>
            <p:cNvPr id="98" name="Freeform 7"/>
            <p:cNvSpPr/>
            <p:nvPr/>
          </p:nvSpPr>
          <p:spPr>
            <a:xfrm>
              <a:off x="13068360" y="2071800"/>
              <a:ext cx="3510000" cy="350820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8"/>
          <p:cNvGrpSpPr/>
          <p:nvPr/>
        </p:nvGrpSpPr>
        <p:grpSpPr>
          <a:xfrm>
            <a:off x="2374920" y="7020000"/>
            <a:ext cx="5773680" cy="2238480"/>
            <a:chOff x="2374920" y="7020000"/>
            <a:chExt cx="5773680" cy="2238480"/>
          </a:xfrm>
        </p:grpSpPr>
        <p:sp>
          <p:nvSpPr>
            <p:cNvPr id="100" name="Freeform 9"/>
            <p:cNvSpPr/>
            <p:nvPr/>
          </p:nvSpPr>
          <p:spPr>
            <a:xfrm>
              <a:off x="2374920" y="7020000"/>
              <a:ext cx="5773680" cy="2238480"/>
            </a:xfrm>
            <a:custGeom>
              <a:avLst/>
              <a:gdLst/>
              <a:ahLst/>
              <a:rect l="l" t="t" r="r" b="b"/>
              <a:pathLst>
                <a:path w="3203195" h="1241560">
                  <a:moveTo>
                    <a:pt x="0" y="0"/>
                  </a:moveTo>
                  <a:lnTo>
                    <a:pt x="3203195" y="0"/>
                  </a:lnTo>
                  <a:lnTo>
                    <a:pt x="3203195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0"/>
          <p:cNvSpPr/>
          <p:nvPr/>
        </p:nvSpPr>
        <p:spPr>
          <a:xfrm>
            <a:off x="539640" y="441360"/>
            <a:ext cx="167198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efe1"/>
                </a:solidFill>
                <a:latin typeface="Poppins Light Bold"/>
                <a:ea typeface="Arial"/>
              </a:rPr>
              <a:t>Sulla base di principi, che ne costituiscono la premessa, la Carta si articola su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3 LIVELLI DI IMPEG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796160" y="2895480"/>
            <a:ext cx="283680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salvaguardare l’acqua come bene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2374920" y="2689200"/>
            <a:ext cx="250992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concretizzare il diritto umano a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13370040" y="2319480"/>
            <a:ext cx="2906640" cy="29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 Bold"/>
                <a:ea typeface="Arial"/>
              </a:rPr>
              <a:t>la gestione pubblica, sostenibile e partecipata dell’acq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39640" y="598968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dbefe1"/>
                </a:solidFill>
                <a:latin typeface="Poppins Light Bold"/>
                <a:ea typeface="Arial"/>
              </a:rPr>
              <a:t>METODOLOGI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5"/>
          <p:cNvGrpSpPr/>
          <p:nvPr/>
        </p:nvGrpSpPr>
        <p:grpSpPr>
          <a:xfrm>
            <a:off x="10109160" y="7188120"/>
            <a:ext cx="5756400" cy="2054160"/>
            <a:chOff x="10109160" y="7188120"/>
            <a:chExt cx="5756400" cy="2054160"/>
          </a:xfrm>
        </p:grpSpPr>
        <p:sp>
          <p:nvSpPr>
            <p:cNvPr id="107" name="Freeform 16"/>
            <p:cNvSpPr/>
            <p:nvPr/>
          </p:nvSpPr>
          <p:spPr>
            <a:xfrm>
              <a:off x="10109160" y="7188120"/>
              <a:ext cx="5756400" cy="2054160"/>
            </a:xfrm>
            <a:custGeom>
              <a:avLst/>
              <a:gdLst/>
              <a:ahLst/>
              <a:rect l="l" t="t" r="r" b="b"/>
              <a:pathLst>
                <a:path w="3192961" h="1241560">
                  <a:moveTo>
                    <a:pt x="0" y="0"/>
                  </a:moveTo>
                  <a:lnTo>
                    <a:pt x="3192961" y="0"/>
                  </a:lnTo>
                  <a:lnTo>
                    <a:pt x="3192961" y="1241560"/>
                  </a:lnTo>
                  <a:lnTo>
                    <a:pt x="0" y="12415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7"/>
          <p:cNvSpPr/>
          <p:nvPr/>
        </p:nvSpPr>
        <p:spPr>
          <a:xfrm>
            <a:off x="2849400" y="7583400"/>
            <a:ext cx="482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desione della Città ai principi dell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8"/>
          <p:cNvSpPr/>
          <p:nvPr/>
        </p:nvSpPr>
        <p:spPr>
          <a:xfrm>
            <a:off x="9610560" y="7267680"/>
            <a:ext cx="6751800" cy="19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Definizione di azioni specifiche:  gestione sostenibile di accesso universale, tutela della risorsa, partecipazione dei cittad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2"/>
          <p:cNvGrpSpPr/>
          <p:nvPr/>
        </p:nvGrpSpPr>
        <p:grpSpPr>
          <a:xfrm>
            <a:off x="166680" y="1930320"/>
            <a:ext cx="5719680" cy="6789960"/>
            <a:chOff x="166680" y="1930320"/>
            <a:chExt cx="5719680" cy="6789960"/>
          </a:xfrm>
        </p:grpSpPr>
        <p:sp>
          <p:nvSpPr>
            <p:cNvPr id="111" name="Freeform 3"/>
            <p:cNvSpPr/>
            <p:nvPr/>
          </p:nvSpPr>
          <p:spPr>
            <a:xfrm>
              <a:off x="166680" y="1930320"/>
              <a:ext cx="5719680" cy="678996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4"/>
          <p:cNvGrpSpPr/>
          <p:nvPr/>
        </p:nvGrpSpPr>
        <p:grpSpPr>
          <a:xfrm>
            <a:off x="6162840" y="1930320"/>
            <a:ext cx="5746680" cy="6789960"/>
            <a:chOff x="6162840" y="1930320"/>
            <a:chExt cx="5746680" cy="6789960"/>
          </a:xfrm>
        </p:grpSpPr>
        <p:sp>
          <p:nvSpPr>
            <p:cNvPr id="113" name="Freeform 5"/>
            <p:cNvSpPr/>
            <p:nvPr/>
          </p:nvSpPr>
          <p:spPr>
            <a:xfrm>
              <a:off x="6162840" y="1930320"/>
              <a:ext cx="574668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"/>
          <p:cNvGrpSpPr/>
          <p:nvPr/>
        </p:nvGrpSpPr>
        <p:grpSpPr>
          <a:xfrm>
            <a:off x="12179160" y="1930320"/>
            <a:ext cx="5747040" cy="6789960"/>
            <a:chOff x="12179160" y="1930320"/>
            <a:chExt cx="5747040" cy="6789960"/>
          </a:xfrm>
        </p:grpSpPr>
        <p:sp>
          <p:nvSpPr>
            <p:cNvPr id="115" name="Freeform 7"/>
            <p:cNvSpPr/>
            <p:nvPr/>
          </p:nvSpPr>
          <p:spPr>
            <a:xfrm>
              <a:off x="12179160" y="1930320"/>
              <a:ext cx="5747040" cy="6789960"/>
            </a:xfrm>
            <a:custGeom>
              <a:avLst/>
              <a:gdLst/>
              <a:ahLst/>
              <a:rect l="l" t="t" r="r" b="b"/>
              <a:pathLst>
                <a:path w="3188254" h="3766531">
                  <a:moveTo>
                    <a:pt x="0" y="0"/>
                  </a:moveTo>
                  <a:lnTo>
                    <a:pt x="3188254" y="0"/>
                  </a:lnTo>
                  <a:lnTo>
                    <a:pt x="318825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8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POSSIBILI AZION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295200" y="2187720"/>
            <a:ext cx="5461200" cy="63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Implementare negli spazi pubblici punti di erogazione acqua di rete e accesso ai servizi igienici di base (Dir.UE 2020/218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zioni di riduzione consumi di acqua di rete a 180 l/p/g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6305400" y="2781360"/>
            <a:ext cx="54612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Promuovere utilizzo acqua di rete negli edifici pubbli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e negli </a:t>
            </a: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esercizi commerciali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raccolta selettiva e riciclo PET negli edifici pubblici e privati (Dir. UE 2019/904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2322080" y="2803680"/>
            <a:ext cx="546120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ttivare strumenti di partecipazione dei cittadini (Consigli dei Cittadi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Comunicazione mirata per target, per aumentare fiducia nell'acqua di ret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03360" indent="-301680">
              <a:lnSpc>
                <a:spcPts val="4198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ffffff"/>
                </a:solidFill>
                <a:latin typeface="Poppins Light"/>
                <a:ea typeface="Arial"/>
              </a:rPr>
              <a:t>Riconoscimenti civici alle  migliori buone pratiche cittadin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2"/>
          <p:cNvSpPr/>
          <p:nvPr/>
        </p:nvSpPr>
        <p:spPr>
          <a:xfrm>
            <a:off x="539640" y="431640"/>
            <a:ext cx="16719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LA CARTA E' STATA PRESENTATA 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"/>
          <p:cNvGrpSpPr/>
          <p:nvPr/>
        </p:nvGrpSpPr>
        <p:grpSpPr>
          <a:xfrm>
            <a:off x="297000" y="1749600"/>
            <a:ext cx="5719680" cy="6787800"/>
            <a:chOff x="297000" y="1749600"/>
            <a:chExt cx="5719680" cy="6787800"/>
          </a:xfrm>
        </p:grpSpPr>
        <p:sp>
          <p:nvSpPr>
            <p:cNvPr id="122" name="Freeform 4"/>
            <p:cNvSpPr/>
            <p:nvPr/>
          </p:nvSpPr>
          <p:spPr>
            <a:xfrm>
              <a:off x="29700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6284880" y="1749600"/>
            <a:ext cx="5718240" cy="6787800"/>
            <a:chOff x="6284880" y="1749600"/>
            <a:chExt cx="5718240" cy="6787800"/>
          </a:xfrm>
        </p:grpSpPr>
        <p:sp>
          <p:nvSpPr>
            <p:cNvPr id="124" name="Freeform 6"/>
            <p:cNvSpPr/>
            <p:nvPr/>
          </p:nvSpPr>
          <p:spPr>
            <a:xfrm>
              <a:off x="6284880" y="1749600"/>
              <a:ext cx="571824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7"/>
          <p:cNvGrpSpPr/>
          <p:nvPr/>
        </p:nvGrpSpPr>
        <p:grpSpPr>
          <a:xfrm>
            <a:off x="12203280" y="1749600"/>
            <a:ext cx="5719680" cy="6787800"/>
            <a:chOff x="12203280" y="1749600"/>
            <a:chExt cx="5719680" cy="6787800"/>
          </a:xfrm>
        </p:grpSpPr>
        <p:sp>
          <p:nvSpPr>
            <p:cNvPr id="126" name="Freeform 8"/>
            <p:cNvSpPr/>
            <p:nvPr/>
          </p:nvSpPr>
          <p:spPr>
            <a:xfrm>
              <a:off x="12203280" y="1749600"/>
              <a:ext cx="5719680" cy="6787800"/>
            </a:xfrm>
            <a:custGeom>
              <a:avLst/>
              <a:gdLst/>
              <a:ahLst/>
              <a:rect l="l" t="t" r="r" b="b"/>
              <a:pathLst>
                <a:path w="3173314" h="3766531">
                  <a:moveTo>
                    <a:pt x="0" y="0"/>
                  </a:moveTo>
                  <a:lnTo>
                    <a:pt x="3173314" y="0"/>
                  </a:lnTo>
                  <a:lnTo>
                    <a:pt x="3173314" y="3766531"/>
                  </a:lnTo>
                  <a:lnTo>
                    <a:pt x="0" y="37665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d61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Box 9"/>
          <p:cNvSpPr/>
          <p:nvPr/>
        </p:nvSpPr>
        <p:spPr>
          <a:xfrm>
            <a:off x="539640" y="2308320"/>
            <a:ext cx="5251680" cy="62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MILANO E PALER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Milano </a:t>
            </a:r>
            <a:r>
              <a:rPr b="0" lang="it-IT" sz="3200" spc="-1" strike="noStrike">
                <a:solidFill>
                  <a:srgbClr val="ffffff"/>
                </a:solidFill>
                <a:latin typeface="Poppins Light"/>
                <a:ea typeface="Arial"/>
              </a:rPr>
              <a:t>(</a:t>
            </a:r>
            <a:r>
              <a:rPr b="0" lang="it-IT" sz="2800" spc="-1" strike="noStrike">
                <a:solidFill>
                  <a:srgbClr val="ffffff"/>
                </a:solidFill>
                <a:latin typeface="Poppins Light"/>
                <a:ea typeface="Arial"/>
              </a:rPr>
              <a:t>Ass. Ambiente, Ass. Partecipazione, Milan Food Policy, Progetto Città Resilien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TO Città Metropolita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MM e Cap Ho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Comune di Palermo e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Poppins Light Bold"/>
              </a:rPr>
              <a:t> </a:t>
            </a:r>
            <a:r>
              <a:rPr b="0" lang="it-IT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6649920" y="2308320"/>
            <a:ext cx="49881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RETI DI CITTA</a:t>
            </a:r>
            <a:r>
              <a:rPr b="0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gende 21 Loc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Rete Città S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An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​</a:t>
            </a: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Enti Locali per la 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12501720" y="2308320"/>
            <a:ext cx="51228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c2a2"/>
                </a:solidFill>
                <a:latin typeface="Poppins Light Bold"/>
                <a:ea typeface="Arial"/>
              </a:rPr>
              <a:t>AGEND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Urban@it, Centro ricerca di politiche urb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Agenda Urbana Sviluppo Sostenibile ASviS 2019, 2020,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344520">
              <a:lnSpc>
                <a:spcPts val="4473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oppins Light Bold"/>
                <a:ea typeface="Arial"/>
              </a:rPr>
              <a:t>Raccomandazioni  Rapporto ASviS 2020 e 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c2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6026040" y="1143000"/>
            <a:ext cx="2573280" cy="2575080"/>
            <a:chOff x="6026040" y="1143000"/>
            <a:chExt cx="2573280" cy="2575080"/>
          </a:xfrm>
        </p:grpSpPr>
        <p:sp>
          <p:nvSpPr>
            <p:cNvPr id="131" name="Freeform 3"/>
            <p:cNvSpPr/>
            <p:nvPr/>
          </p:nvSpPr>
          <p:spPr>
            <a:xfrm>
              <a:off x="6026040" y="1143000"/>
              <a:ext cx="25732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4"/>
          <p:cNvGrpSpPr/>
          <p:nvPr/>
        </p:nvGrpSpPr>
        <p:grpSpPr>
          <a:xfrm>
            <a:off x="9144000" y="1143000"/>
            <a:ext cx="2575080" cy="2575080"/>
            <a:chOff x="9144000" y="1143000"/>
            <a:chExt cx="2575080" cy="2575080"/>
          </a:xfrm>
        </p:grpSpPr>
        <p:sp>
          <p:nvSpPr>
            <p:cNvPr id="133" name="Freeform 5"/>
            <p:cNvSpPr/>
            <p:nvPr/>
          </p:nvSpPr>
          <p:spPr>
            <a:xfrm>
              <a:off x="9144000" y="1143000"/>
              <a:ext cx="2575080" cy="2575080"/>
            </a:xfrm>
            <a:custGeom>
              <a:avLst/>
              <a:gdLst/>
              <a:ahLst/>
              <a:rect l="l" t="t" r="r" b="b"/>
              <a:pathLst>
                <a:path w="6321665" h="6350000">
                  <a:moveTo>
                    <a:pt x="3160833" y="0"/>
                  </a:moveTo>
                  <a:lnTo>
                    <a:pt x="3160833" y="0"/>
                  </a:lnTo>
                  <a:cubicBezTo>
                    <a:pt x="4908795" y="7817"/>
                    <a:pt x="6321666" y="1427021"/>
                    <a:pt x="6321666" y="3175000"/>
                  </a:cubicBezTo>
                  <a:cubicBezTo>
                    <a:pt x="6321666" y="4922979"/>
                    <a:pt x="4908795" y="6342183"/>
                    <a:pt x="3160833" y="6350000"/>
                  </a:cubicBezTo>
                  <a:cubicBezTo>
                    <a:pt x="1412871" y="6342183"/>
                    <a:pt x="0" y="4922979"/>
                    <a:pt x="0" y="3175000"/>
                  </a:cubicBezTo>
                  <a:cubicBezTo>
                    <a:pt x="0" y="1427021"/>
                    <a:pt x="1412871" y="7817"/>
                    <a:pt x="3160833" y="0"/>
                  </a:cubicBez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914400" y="5546880"/>
            <a:ext cx="7843680" cy="4411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7"/>
          <p:cNvSpPr/>
          <p:nvPr/>
        </p:nvSpPr>
        <p:spPr>
          <a:xfrm>
            <a:off x="398520" y="431640"/>
            <a:ext cx="167194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1d617a"/>
                </a:solidFill>
                <a:latin typeface="Poppins Bold Bold"/>
                <a:ea typeface="Arial"/>
              </a:rPr>
              <a:t>Metodologia : TAVOLI MULTI STAKEHOLDER sull'ACQU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8"/>
          <p:cNvSpPr/>
          <p:nvPr/>
        </p:nvSpPr>
        <p:spPr>
          <a:xfrm>
            <a:off x="6243480" y="1562040"/>
            <a:ext cx="213840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territoriali sull'acq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9"/>
          <p:cNvSpPr/>
          <p:nvPr/>
        </p:nvSpPr>
        <p:spPr>
          <a:xfrm>
            <a:off x="9675720" y="1820880"/>
            <a:ext cx="15098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617a"/>
                </a:solidFill>
                <a:latin typeface="Poppins Light Bold"/>
                <a:ea typeface="Arial"/>
              </a:rPr>
              <a:t>tavoli in r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"/>
          <p:cNvSpPr/>
          <p:nvPr/>
        </p:nvSpPr>
        <p:spPr>
          <a:xfrm>
            <a:off x="270000" y="3994200"/>
            <a:ext cx="1671948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Il tavolo di Mil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0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d617a"/>
                </a:solidFill>
                <a:latin typeface="Poppins Bold Bold"/>
                <a:ea typeface="Arial"/>
              </a:rPr>
              <a:t>"Acqua, città e riduzione della plastic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8926560" y="5477040"/>
            <a:ext cx="8988480" cy="44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20 stakeholder coinvol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"/>
              </a:rPr>
              <a:t>4 tipologie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Istituzioni pubbliche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Gestori del SII e rifiut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Universit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384120">
              <a:lnSpc>
                <a:spcPts val="4997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Poppins Light Bold"/>
                <a:ea typeface="Arial"/>
              </a:rPr>
              <a:t>Organizzazioni della Società Civ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61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762120" y="1887480"/>
            <a:ext cx="5657760" cy="2178000"/>
            <a:chOff x="762120" y="1887480"/>
            <a:chExt cx="5657760" cy="2178000"/>
          </a:xfrm>
        </p:grpSpPr>
        <p:sp>
          <p:nvSpPr>
            <p:cNvPr id="141" name="Freeform 3"/>
            <p:cNvSpPr/>
            <p:nvPr/>
          </p:nvSpPr>
          <p:spPr>
            <a:xfrm>
              <a:off x="762120" y="188748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Box 4"/>
          <p:cNvSpPr/>
          <p:nvPr/>
        </p:nvSpPr>
        <p:spPr>
          <a:xfrm>
            <a:off x="392040" y="4130640"/>
            <a:ext cx="1713384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58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1c2a2"/>
                </a:solidFill>
                <a:latin typeface="Poppins Bold Bold"/>
                <a:ea typeface="Arial"/>
              </a:rPr>
              <a:t>PROGETTO BeviM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770040" y="1773360"/>
            <a:ext cx="542124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Partn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Bicocca Statale Politecn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icma con contributo di Fond. Cariplo e Cori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11437920" y="1816200"/>
            <a:ext cx="5657760" cy="2178000"/>
            <a:chOff x="11437920" y="1816200"/>
            <a:chExt cx="5657760" cy="2178000"/>
          </a:xfrm>
        </p:grpSpPr>
        <p:sp>
          <p:nvSpPr>
            <p:cNvPr id="145" name="Freeform 7"/>
            <p:cNvSpPr/>
            <p:nvPr/>
          </p:nvSpPr>
          <p:spPr>
            <a:xfrm>
              <a:off x="11437920" y="1816200"/>
              <a:ext cx="565776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Box 8"/>
          <p:cNvSpPr/>
          <p:nvPr/>
        </p:nvSpPr>
        <p:spPr>
          <a:xfrm>
            <a:off x="11522160" y="1720800"/>
            <a:ext cx="5657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              </a:t>
            </a: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App BeviMI: 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misura riduzione CO</a:t>
            </a:r>
            <a:r>
              <a:rPr b="0" lang="en-US" sz="2800" spc="-1" strike="noStrike">
                <a:solidFill>
                  <a:srgbClr val="1d617a"/>
                </a:solidFill>
                <a:latin typeface="Calibri"/>
                <a:ea typeface="Calibri"/>
              </a:rPr>
              <a:t>₂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 e Pet risparmi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Ecocompattatore</a:t>
            </a:r>
            <a:r>
              <a:rPr b="0" lang="en-US" sz="2800" spc="-1" strike="noStrike">
                <a:solidFill>
                  <a:srgbClr val="1d617a"/>
                </a:solidFill>
                <a:latin typeface="Poppins Light Bold"/>
                <a:ea typeface="Arial"/>
              </a:rPr>
              <a:t>: volume P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9"/>
          <p:cNvGrpSpPr/>
          <p:nvPr/>
        </p:nvGrpSpPr>
        <p:grpSpPr>
          <a:xfrm>
            <a:off x="762120" y="4978440"/>
            <a:ext cx="5657760" cy="2176560"/>
            <a:chOff x="762120" y="4978440"/>
            <a:chExt cx="5657760" cy="2176560"/>
          </a:xfrm>
        </p:grpSpPr>
        <p:sp>
          <p:nvSpPr>
            <p:cNvPr id="148" name="Freeform 10"/>
            <p:cNvSpPr/>
            <p:nvPr/>
          </p:nvSpPr>
          <p:spPr>
            <a:xfrm>
              <a:off x="762120" y="4978440"/>
              <a:ext cx="565776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11"/>
          <p:cNvSpPr/>
          <p:nvPr/>
        </p:nvSpPr>
        <p:spPr>
          <a:xfrm>
            <a:off x="893880" y="5180040"/>
            <a:ext cx="5616360" cy="17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2 Obiettivi</a:t>
            </a: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Promozione acqua di r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buClr>
                <a:srgbClr val="1d61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duzione e riciclo P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2"/>
          <p:cNvGrpSpPr/>
          <p:nvPr/>
        </p:nvGrpSpPr>
        <p:grpSpPr>
          <a:xfrm>
            <a:off x="11423520" y="4870440"/>
            <a:ext cx="5658120" cy="2176560"/>
            <a:chOff x="11423520" y="4870440"/>
            <a:chExt cx="5658120" cy="2176560"/>
          </a:xfrm>
        </p:grpSpPr>
        <p:sp>
          <p:nvSpPr>
            <p:cNvPr id="151" name="Freeform 13"/>
            <p:cNvSpPr/>
            <p:nvPr/>
          </p:nvSpPr>
          <p:spPr>
            <a:xfrm>
              <a:off x="11423520" y="4870440"/>
              <a:ext cx="5658120" cy="217656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c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14"/>
          <p:cNvSpPr/>
          <p:nvPr/>
        </p:nvSpPr>
        <p:spPr>
          <a:xfrm>
            <a:off x="11423520" y="4778280"/>
            <a:ext cx="547848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Outpu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Ricerca</a:t>
            </a: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 interuniversitaria su impatto ambi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Poppins Light Bold"/>
                <a:ea typeface="Arial"/>
              </a:rPr>
              <a:t>Certificazione su Blockch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5"/>
          <p:cNvGrpSpPr/>
          <p:nvPr/>
        </p:nvGrpSpPr>
        <p:grpSpPr>
          <a:xfrm>
            <a:off x="6251400" y="7818480"/>
            <a:ext cx="5658120" cy="2178000"/>
            <a:chOff x="6251400" y="7818480"/>
            <a:chExt cx="5658120" cy="2178000"/>
          </a:xfrm>
        </p:grpSpPr>
        <p:sp>
          <p:nvSpPr>
            <p:cNvPr id="154" name="Freeform 16"/>
            <p:cNvSpPr/>
            <p:nvPr/>
          </p:nvSpPr>
          <p:spPr>
            <a:xfrm>
              <a:off x="6251400" y="7818480"/>
              <a:ext cx="5658120" cy="2178000"/>
            </a:xfrm>
            <a:custGeom>
              <a:avLst/>
              <a:gdLst/>
              <a:ahLst/>
              <a:rect l="l" t="t" r="r" b="b"/>
              <a:pathLst>
                <a:path w="1913890" h="736493">
                  <a:moveTo>
                    <a:pt x="0" y="0"/>
                  </a:moveTo>
                  <a:lnTo>
                    <a:pt x="1913890" y="0"/>
                  </a:lnTo>
                  <a:lnTo>
                    <a:pt x="1913890" y="736493"/>
                  </a:lnTo>
                  <a:lnTo>
                    <a:pt x="0" y="7364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ef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17"/>
          <p:cNvSpPr/>
          <p:nvPr/>
        </p:nvSpPr>
        <p:spPr>
          <a:xfrm>
            <a:off x="6384960" y="7778880"/>
            <a:ext cx="56577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Tar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150.000 studenti/person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Riconoscimenti civic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617a"/>
                </a:solidFill>
                <a:latin typeface="Poppins Light Bold"/>
                <a:ea typeface="Arial"/>
              </a:rPr>
              <a:t>ai migliori comportam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4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magine 2" descr=""/>
          <p:cNvPicPr/>
          <p:nvPr/>
        </p:nvPicPr>
        <p:blipFill>
          <a:blip r:embed="rId1"/>
          <a:stretch/>
        </p:blipFill>
        <p:spPr>
          <a:xfrm>
            <a:off x="7643880" y="490680"/>
            <a:ext cx="2654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Cinzia</dc:creator>
  <dc:description/>
  <dc:language>en-US</dc:language>
  <cp:lastModifiedBy>Rosario Lembo</cp:lastModifiedBy>
  <dcterms:modified xsi:type="dcterms:W3CDTF">2021-12-20T10:29:38Z</dcterms:modified>
  <cp:revision>47</cp:revision>
  <dc:subject/>
  <dc:title>Copia di definitivo</dc:title>
</cp:coreProperties>
</file>